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0440-51D9-4926-99F1-0CD4643A2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C8C8-2718-4168-9A75-B4DFBF604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74FE-F192-45A4-BAD9-7B67C86DC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39EC-38A3-43E6-9652-2588A83F8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BF94-CA97-4CF0-8ABB-7B980EE39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F9CA-B763-4350-B7A8-1B2D169A2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3AD3-3ED2-4507-A813-60E988F01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10BB-12EE-4B10-955A-9C3638CD9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7583-408D-4E7F-A8B6-2AF6A27B1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FB29-6CA9-4BCD-BB71-7F3AE3625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E0FE-E280-488B-80F7-4F906F688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416C-901D-4E18-AE9D-A7EFB9B7B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8840" indent="-30384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5120" indent="-52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20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A5C6CFD5-F685-4C78-8ABB-8E0D787938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EE7FF2B-183C-4489-AB51-4F2D5A8CBA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37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EF berichten bij huidige formulie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376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ackporting naar StUF EF 2.04 bijna volto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aag reactie op discussiepunten (Bijlagen, Geneste elementen, Prefixen) &amp; Valid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tus &amp; formalis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E04B-BB09-45D1-A5D1-688948A129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UF EF berichten bij nieuwe releas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UF EF 3.01” ber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november ge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1 oktober: concept formulieren ger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5:38:20Z</dcterms:created>
  <dc:creator>jegor</dc:creator>
  <dc:description/>
  <dc:language>en-US</dc:language>
  <cp:lastModifiedBy>jegor</cp:lastModifiedBy>
  <dcterms:modified xsi:type="dcterms:W3CDTF">2009-09-23T05:39:31Z</dcterms:modified>
  <cp:revision>1</cp:revision>
  <dc:subject/>
  <dc:title>StUF EF berichten bij huidige formulieren</dc:title>
</cp:coreProperties>
</file>